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92748"/>
        <c:axId val="75087796"/>
      </c:barChart>
      <c:catAx>
        <c:axId val="82492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87796"/>
        <c:crosses val="autoZero"/>
        <c:auto val="1"/>
        <c:lblAlgn val="ctr"/>
        <c:lblOffset val="100"/>
        <c:noMultiLvlLbl val="0"/>
      </c:catAx>
      <c:valAx>
        <c:axId val="75087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92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0DF-DC6E-406A-9EF5-F1EACAD4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E39-E4B8-4079-982F-78079425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B5B-87CA-4C83-8629-76AB63EE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2C2-14A9-4820-B0B1-977E1971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73E-3BA4-4384-8EA1-25DF64AA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23C-7F36-49D0-BE09-6E67D7EB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8F0-4507-44F1-9E14-67F64F39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DF4-1654-4210-ACDC-689BA768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6DB-8767-4730-BD11-A4483F0F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9B5-AF67-42E7-8DE7-7A78A06F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401-61A0-455E-A20F-114F59F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F41-46B9-435A-B505-3F43596D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EA91-49A3-412E-9465-6D908D70C4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