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7958"/>
        <c:axId val="14469622"/>
      </c:barChart>
      <c:catAx>
        <c:axId val="3097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69622"/>
        <c:crosses val="autoZero"/>
        <c:auto val="1"/>
        <c:lblAlgn val="ctr"/>
        <c:lblOffset val="100"/>
        <c:noMultiLvlLbl val="0"/>
      </c:catAx>
      <c:valAx>
        <c:axId val="14469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7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B5E-4EBF-4938-8BC3-0EFF7A04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78E-A422-4C8B-BEB2-85FEB0F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A61-C21F-4099-9664-06DAFAE0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BA4-D493-4EF0-9D69-FC7C68BF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A98-377A-47C8-AA24-D282082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CD1-3888-4D2B-8A51-7152C60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E0C-A4F4-4D8B-86F2-F4BA544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DC6-3157-497D-8F7D-6687D9DF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DF7-C784-4234-BCF2-3E91C74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721-0C6E-4086-8150-4F655D1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E30-EB12-4172-84B6-C112CF2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4B5-2AFC-44EC-89D9-8A694EF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D4A90-66D3-4150-A3BA-893EECE0A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