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537112"/>
        <c:axId val="99497232"/>
      </c:barChart>
      <c:catAx>
        <c:axId val="8153711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9497232"/>
        <c:crosses val="autoZero"/>
        <c:auto val="1"/>
        <c:lblAlgn val="ctr"/>
        <c:lblOffset val="100"/>
        <c:noMultiLvlLbl val="0"/>
      </c:catAx>
      <c:valAx>
        <c:axId val="994972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53711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D4A9C-66BF-44EE-8F0F-0A77DB9672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94BBD-17BB-489B-A6A1-64C86A645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B18F9-8A42-4225-A037-10B025B7B1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CE335-64B2-4342-9262-DFD9C6DC1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50BC4B-D9EA-463C-AF8C-FCADC8B71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9EE1-74D8-4795-94DB-32477E9666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8EAA1-632B-4F6E-93A5-F5A2ACC3A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521C7-149F-44E2-8F4A-930DD15FD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CA491-255B-4C05-A53C-9552CA6F49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BFA77-8F4D-4309-A1FB-CAB5E8784F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37C1-57CF-4065-97D3-ACF711FC0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31D7C-B7D1-4BAD-9EC7-E957D0F122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5A4604-4EB2-4EFD-AB07-E633EC58FCA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