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24185"/>
        <c:axId val="89780938"/>
      </c:barChart>
      <c:catAx>
        <c:axId val="9292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0938"/>
        <c:crosses val="autoZero"/>
        <c:auto val="1"/>
        <c:lblAlgn val="ctr"/>
        <c:lblOffset val="100"/>
        <c:noMultiLvlLbl val="0"/>
      </c:catAx>
      <c:valAx>
        <c:axId val="89780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2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D41-5686-4371-AA04-2F99D934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F09-8CA5-47AD-960A-15C77F4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3AB-9DF6-4E0C-A822-2AFCF0AB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C58-B594-40C1-ABCE-185BC6D5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C2B-1AFA-40AC-88FF-02D1110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16D-54C9-41D9-8643-AEADC60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FA9-61E3-48DB-AEC8-9BAB30C2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5CB-D607-43FF-9CF0-A5FAF919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E8E-1BC3-43D9-B494-210D851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8D0-F462-4222-ACCC-C64D9F2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50C-5B7E-4B7E-B170-FD61142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629-6064-4152-B3AD-B398A04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BB48-9E5D-4EA3-8F84-66BD52E380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