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73079"/>
        <c:axId val="25882921"/>
      </c:barChart>
      <c:catAx>
        <c:axId val="16373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82921"/>
        <c:crosses val="autoZero"/>
        <c:auto val="1"/>
        <c:lblAlgn val="ctr"/>
        <c:lblOffset val="100"/>
        <c:noMultiLvlLbl val="0"/>
      </c:catAx>
      <c:valAx>
        <c:axId val="25882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73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31A-A477-448C-9B12-BF24F713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A28-0241-4E76-8443-BD94C10C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A59-1F18-4072-A9E3-6AF597DB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9E4-5ADA-4CD8-A49A-55410665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74D-D6D8-4440-8BD4-47FD0F3D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4A5-528E-4B09-B200-FAEEF6F6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511-AFB5-4AEF-BFBD-78572FEF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17C-31F5-482F-9A93-A1256BE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1E8-8805-4DFC-99A9-4F0FAD44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247-ABAC-4989-BF39-CE264B1C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683-098B-4EE6-8D69-7DB96917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1C0-DC2A-42A7-931F-35248BE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D71C3-5FD4-45D7-9095-D9BDBA6023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