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235080"/>
        <c:axId val="14185168"/>
      </c:barChart>
      <c:catAx>
        <c:axId val="772350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85168"/>
        <c:crosses val="autoZero"/>
        <c:auto val="1"/>
        <c:lblAlgn val="ctr"/>
        <c:lblOffset val="100"/>
        <c:noMultiLvlLbl val="0"/>
      </c:catAx>
      <c:valAx>
        <c:axId val="141851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2350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C38F-0A51-48EB-8DF7-6D449DA78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8479-7F11-4516-B7AB-889B81E8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D286-787B-4857-B744-4E224D705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CDB6-81CF-418F-910B-723DBB73D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D6B2-80EC-43B4-8E7E-17DD521E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7ACF-A485-401C-A2EA-DA042F80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0310-2F89-4081-8A37-BA3CD8D1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21F5-7E88-4B5A-AA98-34233499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DED6-1D82-4EDB-875D-F3F4925A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E1C9-D295-452E-914B-B8A2F706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BFAF-2E77-488F-A2CD-665FA5AA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C1F0-D3CC-417E-AF37-081E78C7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33380-E787-475C-B44F-B331911272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