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63423"/>
        <c:axId val="54512549"/>
      </c:barChart>
      <c:catAx>
        <c:axId val="58063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12549"/>
        <c:crosses val="autoZero"/>
        <c:auto val="1"/>
        <c:lblAlgn val="ctr"/>
        <c:lblOffset val="100"/>
        <c:noMultiLvlLbl val="0"/>
      </c:catAx>
      <c:valAx>
        <c:axId val="54512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63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659-CD21-4E73-91D9-EA9F45A3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5B2-AD16-4081-82B6-145CE0C3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E15-AB98-47EA-B560-E5845EC3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746-0371-4C23-B8B6-84FC80A3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BD3-A80A-4914-8355-D9443ED4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6C8-4BC0-4D6D-ADE4-97DB19D0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676-E5EA-402E-9BE3-538E1879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8EC-D2FD-4863-8E3C-4E95593E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AC0-70CC-4A8F-B012-49F110E3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E1C-336C-4C55-BA81-17C0C114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0FD-02C7-4078-A82D-89E19AE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CFE-6CA0-49FD-85EE-FA98E6BD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C82AB-E06E-4627-8920-27695333E0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