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60574"/>
        <c:axId val="35260908"/>
      </c:barChart>
      <c:catAx>
        <c:axId val="99260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60908"/>
        <c:crosses val="autoZero"/>
        <c:auto val="1"/>
        <c:lblAlgn val="ctr"/>
        <c:lblOffset val="100"/>
        <c:noMultiLvlLbl val="0"/>
      </c:catAx>
      <c:valAx>
        <c:axId val="35260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0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78B-1E58-43D1-BDE3-A7D590F8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959-C655-479F-8A2C-068DC9AF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0C1-A241-498C-8E66-4B93024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57D-15B5-412A-993B-414B284C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DAF-5EAC-4AF3-BBB2-F95C1FF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22B-BB87-43EB-8C10-4F26CAEE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113-A6F3-4377-92EA-8C0AECA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357-CB71-45C5-983B-72F3FBAD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BB9-5518-489E-9822-570AB2DA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432-0429-4015-A062-E988058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3B0-354B-43EB-92E1-400907C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510-F19B-4D38-B4F9-B1D81212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79282-7AC3-4A3D-8B4A-D772D710E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