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60559"/>
        <c:axId val="69235734"/>
      </c:barChart>
      <c:catAx>
        <c:axId val="117605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35734"/>
        <c:crosses val="autoZero"/>
        <c:auto val="1"/>
        <c:lblAlgn val="ctr"/>
        <c:lblOffset val="100"/>
        <c:noMultiLvlLbl val="0"/>
      </c:catAx>
      <c:valAx>
        <c:axId val="69235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605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88AF-CAD6-41B9-862E-CAC726CA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D49-661C-4A11-BFAC-CDE4C293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9DF-D0CD-4F9E-AAD5-B4B63A3D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470-094F-41FB-A9DE-320C734C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0E6C-39CA-4321-93B0-8C641D8F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32B-2BCF-4871-A68E-D7F3E6AF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7F97-9EF7-4E7D-B2BD-710A0F44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6FE0-B109-4981-BB20-DB56926A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B6A-7E12-40E4-8C88-78023963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42A-39B1-499C-9B9A-BEA99E38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5621-9399-4A53-A99A-3A5102C8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9688-500B-404B-BACB-9D1160EB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901CE-AFF4-477B-8659-0EBB134EEB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