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10822"/>
        <c:axId val="28750942"/>
      </c:barChart>
      <c:catAx>
        <c:axId val="76210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50942"/>
        <c:crosses val="autoZero"/>
        <c:auto val="1"/>
        <c:lblAlgn val="ctr"/>
        <c:lblOffset val="100"/>
        <c:noMultiLvlLbl val="0"/>
      </c:catAx>
      <c:valAx>
        <c:axId val="28750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10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D59-1141-4810-84FB-6879E3D4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6D5-D41E-4B0C-91D7-9C02B737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C64-BC5E-43DA-8ABD-0B45408D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B8B-9C31-4970-AD30-83E27FA2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A45-3623-4369-B9AA-8F078955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C25-81BA-4A30-8E91-FB8C6ADD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425-6473-4064-A9F5-09850B33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D0E-730E-43EC-B4DC-8244685B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E8E-2458-4A90-B039-9C7B17D7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EFE-3206-431B-9A41-CA719725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7F8-D930-499E-ABAA-CF9DC8AD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984-67C6-47BF-8854-8EF8FF26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494FB-E375-4D72-9220-470FA956C9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