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9370736"/>
        <c:axId val="47798006"/>
      </c:barChart>
      <c:catAx>
        <c:axId val="8937073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798006"/>
        <c:crosses val="autoZero"/>
        <c:auto val="1"/>
        <c:lblAlgn val="ctr"/>
        <c:lblOffset val="100"/>
        <c:noMultiLvlLbl val="0"/>
      </c:catAx>
      <c:valAx>
        <c:axId val="4779800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37073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5D551-F370-4B08-967C-70CC224E4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24BDE-1E10-4A75-9213-10BD9A8C9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FE9E4-8D3E-4E16-8A0F-3913677E2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40635-1387-4E51-8F2B-A3F3AFA55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DCD6E-A8AD-405E-A5C9-08495D528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56C22-B353-485A-9B14-431AB5BEF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06A97-50E6-474D-9041-391916D18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4D470-FD97-4781-97CB-57758F433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B8F8A-6D21-4821-BDE4-8D4C8BCBF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97DFB-7C00-4D78-B7E5-D400F94E8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490EC-DCCF-4BC6-A417-9936AC3F0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C5ED6-4559-43A4-B4DA-D7E4ABEA6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AA5D44-9658-46E0-8857-BB822FFFD6D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