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89294"/>
        <c:axId val="55554809"/>
      </c:barChart>
      <c:catAx>
        <c:axId val="38989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54809"/>
        <c:crosses val="autoZero"/>
        <c:auto val="1"/>
        <c:lblAlgn val="ctr"/>
        <c:lblOffset val="100"/>
        <c:noMultiLvlLbl val="0"/>
      </c:catAx>
      <c:valAx>
        <c:axId val="55554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89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804-608F-4343-B8D0-D653D96E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7BC-EB11-47F9-B461-696118EF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EC2-ED75-4E75-8E63-35564FC3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386-77BA-4FE9-A45B-F943C1F3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EB0-A677-4836-A3B4-1D95365C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FBD-B27B-46FC-8262-CFF3EDF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869-C06A-4D23-9559-BFF2D60A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CAD-DA7D-48CF-8C20-6E04C2C3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239-54D8-4718-AA06-B42747BB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152-9D25-4441-A8B5-A8D4004C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BFB-8C55-444D-A44F-260560FD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F92-8AFC-48BE-BCCE-6EFF3CD5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CD639-6F2C-4730-87AC-F34A58F68E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