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383"/>
        <c:axId val="45356798"/>
      </c:barChart>
      <c:catAx>
        <c:axId val="541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56798"/>
        <c:crosses val="autoZero"/>
        <c:auto val="1"/>
        <c:lblAlgn val="ctr"/>
        <c:lblOffset val="100"/>
        <c:noMultiLvlLbl val="0"/>
      </c:catAx>
      <c:valAx>
        <c:axId val="453567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4BE-A8CF-4032-9045-B4D848B6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C202-7B62-4AA7-8F56-40D605B6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154-BC96-4A2E-A0EF-F3632A8C8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579-785E-49DA-A3A5-7499FEC9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7AB4-0FC9-41BE-AB7F-16E44006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7144-1FB5-44C6-AF94-4644213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041-0DFC-4FC4-97E6-EB5067A5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F9C9-EEDB-4771-8A58-3E831011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159-3012-48EB-AC7D-4DA235D6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258F-A1A5-493B-B078-8C1B4ABB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BDF-2575-4F4D-92D3-FB3BE309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0DF-CFF3-4053-9D42-D83AA089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FE316-7FCC-4020-BD01-0689F9553A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