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68214"/>
        <c:axId val="97022491"/>
      </c:barChart>
      <c:catAx>
        <c:axId val="64268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22491"/>
        <c:crosses val="autoZero"/>
        <c:auto val="1"/>
        <c:lblAlgn val="ctr"/>
        <c:lblOffset val="100"/>
        <c:noMultiLvlLbl val="0"/>
      </c:catAx>
      <c:valAx>
        <c:axId val="970224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68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A48-4E7C-4025-B8F7-630D98A7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260-8F5F-48A0-AD3C-EE6913EA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1E7-9E98-45B8-B21D-860D3374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510-C181-4F2E-9AAD-7D4ABBA9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F07-4E12-400C-837A-9CB69123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59E-916A-482E-8EA7-BD2FF688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90A-3789-4C1E-B1B3-A982AC0A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4FC-B1CE-423F-A25E-72F7FC0C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56F-BC45-4171-9000-D4EA91F1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2ED-0F1B-45EB-BC46-BBAE2941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BBA-6724-4D81-BEB8-65143EC4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705-5A07-4C37-AFB6-DFAEFFC3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2D9BE-69F6-42E4-9E47-0135B75169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