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20609"/>
        <c:axId val="65495092"/>
      </c:barChart>
      <c:catAx>
        <c:axId val="79920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5092"/>
        <c:crosses val="autoZero"/>
        <c:auto val="1"/>
        <c:lblAlgn val="ctr"/>
        <c:lblOffset val="100"/>
        <c:noMultiLvlLbl val="0"/>
      </c:catAx>
      <c:valAx>
        <c:axId val="65495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20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B49-A466-4EE7-873E-E6F464FD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110-82E0-485F-A83A-90E8EDF6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8C4-40EF-4711-A5C5-BE3AAFEC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C9E-D5FA-4DE8-A6C4-1B7347C1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C76-E7AC-4258-8AD6-44C3447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138-3E7C-4F53-A765-C1222A8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C6E-EF72-4F0B-BEA3-96B685D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573-9230-4F42-BB06-28DDF9F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BF8-5B7F-409B-B745-D74600EA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B19-F87B-4556-BA7B-C7E2C09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61A-8540-4974-8852-D996CEC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6EE-7A73-4FBA-904F-727E9BC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A2B6-7D29-42A5-A5EF-DD7BC8098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