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759972"/>
        <c:axId val="23440378"/>
      </c:barChart>
      <c:catAx>
        <c:axId val="837599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40378"/>
        <c:crosses val="autoZero"/>
        <c:auto val="1"/>
        <c:lblAlgn val="ctr"/>
        <c:lblOffset val="100"/>
        <c:noMultiLvlLbl val="0"/>
      </c:catAx>
      <c:valAx>
        <c:axId val="234403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599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A18A-20AA-4625-8414-98894E6D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3C65-9A18-4283-92A6-294FBEDF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C856-20B4-44FC-993D-C9ABA80AB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2890-7F61-407E-B3D8-487DDE476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E632-B055-4030-8922-3E6B880F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0A0C-DC99-41D0-897E-3F90C90F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09E0-DA00-42F8-8316-744449E8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D94B-4EE6-4063-8051-7CB20EB7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5C39-7D05-4478-A9C4-EAE7F353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D384-39B1-48C5-888D-10ADC8FE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B6D0-6277-4E9C-BE80-32C57EA6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2283-A5DA-452A-8B45-8129FF29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09518-617D-43A9-B1C3-307B2D43A6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