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9174"/>
        <c:axId val="64494581"/>
      </c:barChart>
      <c:catAx>
        <c:axId val="5559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94581"/>
        <c:crosses val="autoZero"/>
        <c:auto val="1"/>
        <c:lblAlgn val="ctr"/>
        <c:lblOffset val="100"/>
        <c:noMultiLvlLbl val="0"/>
      </c:catAx>
      <c:valAx>
        <c:axId val="64494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9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435-E82F-4321-9493-EFB95351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725-2D2A-4CAF-81C1-B524A46B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53B-7A4C-430D-A41C-4660235C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82D-37CB-40EA-A48D-2A9A77AF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368-29E6-48D4-A29C-2862896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C3E-1552-4704-83E8-E37CF4C2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0BB-1A16-415E-93E0-9C8E641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8E2-CF30-42A4-9AD5-05F769B4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4C7-2E21-411A-94FC-C41C92A9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AFA-3C03-44C2-B5FC-CA9AB740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4B3-BD67-456B-988B-DDB7AE5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41A-060C-4453-9272-DE38639B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6EF56-DB12-4C29-8282-3036000C9D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