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93470"/>
        <c:axId val="72290709"/>
      </c:barChart>
      <c:catAx>
        <c:axId val="78793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0709"/>
        <c:crosses val="autoZero"/>
        <c:auto val="1"/>
        <c:lblAlgn val="ctr"/>
        <c:lblOffset val="100"/>
        <c:noMultiLvlLbl val="0"/>
      </c:catAx>
      <c:valAx>
        <c:axId val="72290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93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7AB-8012-4992-BF17-A17F75A6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B76-B463-4118-8A19-5514751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9E4-6BD2-4BF0-ABDB-960369A9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2C0-7056-45AE-A55D-9ADF2197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0BC-F360-444A-AB0F-1BE1C1F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CBE-7EB7-431F-A590-BF47603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47C-210C-4F98-89DB-AF08D37A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74B-890C-492A-94C6-DE39BED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FE-8ADE-4625-BD3C-BA19A39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195-FBA7-4175-8321-B171C8D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D40-1D58-486E-94F3-57BDA8C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529-4B55-4F55-8717-30EAF0E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05485-123A-426C-9ED0-3633464FB1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