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488772"/>
        <c:axId val="27718072"/>
      </c:barChart>
      <c:catAx>
        <c:axId val="804887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18072"/>
        <c:crosses val="autoZero"/>
        <c:auto val="1"/>
        <c:lblAlgn val="ctr"/>
        <c:lblOffset val="100"/>
        <c:noMultiLvlLbl val="0"/>
      </c:catAx>
      <c:valAx>
        <c:axId val="277180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887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12E9-1A87-44FA-A3AD-3665CB1A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7F6F-3303-46A3-8795-68D9A53C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E73D-14C9-4C41-A426-3B9811CAD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E0D2-4246-419B-85BB-50A35CE2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8C3C-F547-4286-A82C-6AD60ABC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9B9F-8B63-4801-9091-1B4D799F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5B6C-1C60-445C-9BF8-17CABFF9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C2CA-D837-462B-BB2C-B0552D5C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785E-357E-42EF-AC9F-5AD0A3F5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2D1C-59E9-44AD-8E2C-06AD61D4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477B-0027-45E8-8EE7-F7C0D628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97D5-F573-42B5-A60D-83D8BF64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6471E-4B27-456D-B7F5-568E162A8A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