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27422"/>
        <c:axId val="43460855"/>
      </c:barChart>
      <c:catAx>
        <c:axId val="43027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0855"/>
        <c:crosses val="autoZero"/>
        <c:auto val="1"/>
        <c:lblAlgn val="ctr"/>
        <c:lblOffset val="100"/>
        <c:noMultiLvlLbl val="0"/>
      </c:catAx>
      <c:valAx>
        <c:axId val="43460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7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61B-A70C-4A57-8E01-28E0AFCF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E14-F4EC-44DD-9975-CE2AD2E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F1A-4D8A-4BC2-B7A4-3F7BCBF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D64-0EB6-4DE4-BB79-6AD1E23A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105-4E79-465F-B9A9-C4FAFF99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658-7F27-40AD-B566-E402A6A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CB7-2A63-4AF0-8CD3-E4B7728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392-E27F-4121-95EC-D26E712A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CC0-D71A-4C71-ACC6-76804D6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D34-01EE-4A25-8590-870A65E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20B-839B-47DB-AE41-F93C81E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623-411E-4811-A72A-F0BCB64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F8689-D15F-4891-A4A5-EB14AEC4D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