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73629"/>
        <c:axId val="84658637"/>
      </c:barChart>
      <c:catAx>
        <c:axId val="18673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58637"/>
        <c:crosses val="autoZero"/>
        <c:auto val="1"/>
        <c:lblAlgn val="ctr"/>
        <c:lblOffset val="100"/>
        <c:noMultiLvlLbl val="0"/>
      </c:catAx>
      <c:valAx>
        <c:axId val="84658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73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60B-9231-4E28-A6C3-8FD91907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789-92A8-4B1D-A0EF-A0F97A15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E33-F9F5-4D73-9AF7-25470F4E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1A0-CF06-40F5-9879-73FB018C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38E1-AE57-4B7C-BDFB-2B797A07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0A5-F77D-499F-87B5-7F8E8620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61C-EC6E-4090-962D-C3EA3C83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BD66-B09C-47BE-BA23-40AD4AC8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D78-B3D9-484B-81DF-70879393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4C5-0C89-4868-A43B-8B42AB48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C5A-6537-4B58-8F0D-83E4E26D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692-BD80-4F58-B7B7-92C2F1F7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A705D-C6E9-4095-B1E6-D55F480C80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