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55020"/>
        <c:axId val="32015215"/>
      </c:barChart>
      <c:catAx>
        <c:axId val="39655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5215"/>
        <c:crosses val="autoZero"/>
        <c:auto val="1"/>
        <c:lblAlgn val="ctr"/>
        <c:lblOffset val="100"/>
        <c:noMultiLvlLbl val="0"/>
      </c:catAx>
      <c:valAx>
        <c:axId val="32015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5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CEF-D077-4F75-90FA-A67AF986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D91-7F4B-4F0B-B27A-55E5D67F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A40-9051-472F-BEB4-2E6B34F0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7A1-C755-4308-9ACC-EE2FBC91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468-9DA3-4FA2-8980-331179B9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A9F-53AD-4E2A-89AC-5154D47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0A0-8F76-4A3C-81EF-7B1C6044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C14-9425-42BE-8B5D-618904AD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9E6-20B3-4417-B9D5-7C4BD709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F0E-7A69-40F3-9D07-4CD69B45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432-8DB9-4EB8-8BCB-FC12DF6F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443-AB31-4052-B966-5310A3A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9F44D-F326-4987-9C01-259C3D66DA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