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1686198"/>
        <c:axId val="92458173"/>
      </c:barChart>
      <c:catAx>
        <c:axId val="2168619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458173"/>
        <c:crosses val="autoZero"/>
        <c:auto val="1"/>
        <c:lblAlgn val="ctr"/>
        <c:lblOffset val="100"/>
        <c:noMultiLvlLbl val="0"/>
      </c:catAx>
      <c:valAx>
        <c:axId val="9245817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68619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650DC-6D90-433E-B299-8E95148BD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364D2-3528-4C75-BFFD-18DD548E7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8FC16-FE41-4249-B646-75139DF2F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DFCAB-88CA-4CA2-A242-45442FC1B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864D7-46C9-48FE-A41F-B63A2C3FE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2E464-E6F1-48B5-A501-BFD8AE98A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2B741-E844-464B-B90B-574554264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60BB2-3810-410E-91C4-A2BD07D3C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C27F6-4C21-4711-82F4-0BD00BBFE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B3C38-1854-42F6-A47D-83CE754C8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15E74-7C08-4E97-B9D4-9B28EF5C8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1EC32-0DC3-49F9-819E-0DB9590D4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606D6A-E397-42B3-8D9A-A37070CF12B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