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64684"/>
        <c:axId val="83101162"/>
      </c:barChart>
      <c:catAx>
        <c:axId val="83364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1162"/>
        <c:crosses val="autoZero"/>
        <c:auto val="1"/>
        <c:lblAlgn val="ctr"/>
        <c:lblOffset val="100"/>
        <c:noMultiLvlLbl val="0"/>
      </c:catAx>
      <c:valAx>
        <c:axId val="83101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64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1D5-2145-4D8B-8827-43443796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AC0-58A4-4D6D-99D9-BA3E8D5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762-5378-41F1-A0EF-B5329F3E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AD3-6E13-4C2A-8C4A-12C41F3C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465-DE18-4F0E-AA06-BAA233BF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F9F-B355-453D-ABF0-ECF9B8E6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EF9-B62A-4CCB-B936-79331E1A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7BF-8D80-438B-A3AE-CEC7C3D0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8AB-5DAC-45CE-92A1-3A3A9B19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83B-A553-43AB-988B-0F9909E8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2A8-7A0B-4EBF-9914-566BBD26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8E9-CE3E-48B1-A4E9-761E815D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FA80F-4077-457B-A4B9-7E370458C7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