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466F03-4994-4CFB-A8B0-814CD3C143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277403-DF43-489F-831B-F73D0F31E1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7071E6A-5EC8-4ACC-BC20-0B38C69486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E61383-EA39-4972-9A53-5DE221B664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76B98D2-A907-4F35-89F9-2FB519656ED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E1786AD-7E10-4D99-BC96-D1D8461E687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A14119-53B1-45ED-97B5-EDB81E17042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A3EAD-E8EC-4824-ACD8-F3D11A5D21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E5B9D-4ECC-4290-9427-3256DAA4D58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66F0E5-C4E3-4661-92F0-20E715F00BA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466997A-C55F-4579-B26E-311DF38747D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E87805-EE04-4473-9882-99CEA77551F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EC2244-A40D-47F2-9DD6-CD9CE87C0E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711D205-5ECF-4465-BFE4-928C3853CD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B06FB2-7D73-476D-90DE-9131EC93EA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F7B890-EFD3-4864-B3D2-041137DDE1E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A814673-780D-4673-A37F-1F9915DDE5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3F978B-6278-43A4-8549-6262727897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98BE37-53F6-4A17-A2D7-17310345E36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1AB88F-2602-43FC-BD33-E5E622C0C3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49ADF62-DC57-4732-BEBF-43EE4B3ED5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BFB162-44DB-4932-8B03-76806D4EFD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E1205D-0E07-4465-91F2-998E92CF8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0FDB11-69C3-4530-8C30-FA834E3F6E1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E9579-5075-422F-B78D-6A224657E93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8DD63-8646-4395-8826-A7A889F88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5A4A002-CF1C-4553-8AC2-CA6B4D8D104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4195D7-FA6D-4283-AE5F-65AC85E8503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4BC48-3254-4C6D-B6F7-F9BE839AF37D}"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B74C3-682E-41AB-91B1-38791EB1CE60}"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62E864-E168-4CA1-8CB3-F81AE54E3A58}"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108AE2-1DDB-4A1F-94F7-12A4E6B8BA97}"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A487F0-7807-4DB5-B65E-796066FE520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DEBBE-D2EC-4E56-A8C7-5FE827D5BF1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814A-3AA5-4463-AF89-BA8A88D7DAC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EB878-E114-4EFA-9557-89A5D5C0EB18}"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422CB8-8EC8-4E8B-9F2F-EDD58A6A913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6E55C-13E8-440B-A0C4-EFF52F9CB03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2A9039-F90F-4615-A8D1-75331037223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348E0-50E9-41D8-B26D-A59A8761D977}"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FE8443-9049-4629-8069-AC52F04D3BA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836F0-F2E6-4BD7-AF2C-821C865C85E2}"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C382D-E443-41DF-BA6C-2E3621A9A954}"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E17AB-36D0-46BE-95FA-FAD6027681E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53605-7DFD-4530-9A64-5C1A03FA40A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666F7E-DB3F-4318-AF51-D2AA68B8D7FB}"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C9715F-13B2-4DFA-AB3E-8B97B8988A56}"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A057E-4C1F-450E-B66C-729048E4417C}"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E358E-4589-4E09-9951-C3079C6966F4}"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969D9-A02B-4D28-B8A3-73D51BEA507D}"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53F807-201C-468E-B913-A4F9E25875E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9E20F3-17DF-40D5-AA8A-F01BDAFC618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A83927-9B32-4C9E-86EE-76E146484055}"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3EE44FE-1C3A-4020-864F-D43EF8D2F06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C1160-8261-4574-BB25-C4C2872D8CA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ABB795-634B-4B04-A314-96ACE5695A8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622B9B-EB26-4208-8E0B-1C0501641E3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1A7DB-5D7F-4A09-955C-B7A2D4FD06F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660D5-20DF-4854-802F-D5C2A9270E7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153A7C-1F83-4BB8-B82C-CA73098EC42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F102A-F9E2-4ECD-A808-A6D60B714881}"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6362C-1FE8-4967-A291-CD670E636DF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33DCD-3905-4D2D-9967-A7A0C67CB084}"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5B0FA-77B9-46DB-B28C-5780F144A6BF}"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CB070-558D-4FAE-9FB0-1ED7B6125F7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7DC76-2B32-4A0B-855B-A8FFEA6E2668}"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B517D-2716-4231-AA9F-821690E6D553}"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E3D204-3486-4605-84F2-AE28111BB9FD}"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F8838E-C91F-4FE5-B9BC-BB0D2E5261C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61C0CB-343C-4680-9289-4B5AFDF8243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DA35DD-FA4F-4C09-A057-DC0FFF9640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9E9CA-23A6-442A-9853-A73728C8C02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4D72D-7DA9-4E1F-B238-48D8F7494E2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C1DC89-015B-479D-8ACB-316811A1917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7E2DC93-AE13-48ED-B2C8-6F774E17CB4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A7EC63-D997-4F9E-9AFE-A5BDA711C2F7}"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3FF05-AD0B-49EB-B345-CB7CEEA4C03A}"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96C69D3-1C88-4C12-9EA7-C73F7EBE7B62}"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8923B-EE90-431F-957C-840513B160E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BB7C96-61ED-460A-9773-2CF15378B67F}"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A47C73-5598-4257-8CB2-B7D24FB1D2D5}"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CF022F-C1E5-47CE-9CE5-75CEFCAE0E7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46A1C-E301-4FAD-8ACD-454D9B9264C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A4B1F5-5E38-42D8-A5F6-11015BA363F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D44172-2FFA-4AE4-95EA-C7241E83AF65}"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0DDAE6-BDC3-4111-B1B1-BC1988F3455E}"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8BFF-EDDC-4A8C-A9EC-451CA9732CA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D5909-E47A-41D4-A18A-8CF2BAFB4837}"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4ED2D-1EC6-4790-AA9A-F6999696F0D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6FC72-261C-471F-81C4-52C90FD9BA1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8CCB-50E6-40BB-943C-261124D909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FEFCC32-44F0-462A-8118-48A74243102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19375-1964-4444-A394-9F105547EA9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4CDD2-E4F4-4B13-94AC-C8001C8628CE}"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B4CC70-3331-4B97-9B3F-9204657BF213}"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0536E3-A541-458A-A174-27BE699121C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55315EA-55A4-4F38-A97D-08E13A82BC95}"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91EB0-B087-47E4-AD24-F7A59E8C617C}"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EEB2F2-D53C-4FBA-A659-1548A29A944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3A3504-9E5A-4486-BB6A-C06B0CF5686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D4D9E-F89F-4B1F-9464-28B05FBA424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F3314-388E-421A-82BE-4334CE6404E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A01DB-D9E3-464A-A0C6-801F8E71837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74F9CE-1DCA-4E38-8CD7-5D9F0A4E5470}"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05EAF7-BD17-4F40-863F-4E105899531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B9CE21-8565-4047-9B77-E22636FDBB2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329A13-6C6D-49F1-9B9D-9FB138254BE1}"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854CED0-ED42-486C-8C56-A637E6862A35}"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4296C-E5AA-4758-9207-8F304D8CA4E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A7A8C7-0FFB-4AC9-9220-B3428F2A6FE0}"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361893-977E-4F96-B984-5AB8F93A0E0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9C0CDB-57BA-41BB-99BF-D0E30F147D2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678CA7-2F92-4754-AA2D-64B3C19B7FEF}"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55AD03-0B44-4F6C-B885-AA6B5BEB6BA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DDE826-32A8-4516-AD8D-5D052E6E7C7F}"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922A60-47DF-40FD-A9BA-8A3F3C1F7F5B}"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193B57-6F19-4485-9B24-72D6AF7351B7}"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B867D-BA7D-4676-9BA3-CC991774180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D1D07-6B2E-4EDD-8250-F715DB0A396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CCCC2C-C9E0-4125-A37C-F2360E80FBCB}"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53D8B1-8148-4FDB-911A-E46B3D1714C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F59CCB-3761-48F7-89E2-5A4ACBFC58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23811-666A-423D-A642-CB6E194E4F3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8E951D-501C-4A70-AB4C-6072DE43BCF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7FDA85-02C8-4D6D-999F-F0BE81E76030}"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A2C66FB-B9DB-4195-9292-5D80DCE5928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3917E8-A5E7-43C5-9D6B-51AC0DE04D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10E16-7E89-4484-965E-6A62F57EC6A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6993DE-2A0D-4955-B4D2-207F8D6EAE9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C26EB-6CD1-4FE7-A7A1-571174C6A5D9}"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140BB-1D92-45E7-A37E-A7CFFE20571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54965-1AA1-40C9-ABC0-F5A8A0C51D62}"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13857-56D7-4B34-9DAC-07D4D07BB4A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891D3-EF3B-451E-B504-3FF5338DB4F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9C0D9-74AF-40D0-BD7B-49E907ED61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F5EF5-DDCA-4656-9704-7068C61801A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5DE15-06DB-4F59-9E76-E66E54E3FB3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B6DCA-8E9A-404F-9F78-DB3ADC64D74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EBC59-B5C7-4D6E-8DFA-CE6F9DBD157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E9143-01FE-464D-A30E-433FC59CA2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212BC-BA2B-4DEE-B943-43EBD4DEDA9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D14BF0-C45C-40B0-BB12-17FC0857A49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8EC621-4645-4AE7-933A-B4F6F7B2A3B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977D1-47A1-4EAC-B442-CB8282E623BB}"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73D58-1E5B-44CE-8697-1D9BD193A2E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5A319-E6F8-4920-AE5B-4792A537170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47C6E6-8CD1-4203-8837-949C37E1D61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8CC74-F76E-4E85-A4C2-6C56DDA1CCF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355ED-FDFD-44FD-B18B-A115203B2C4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FA5BE-DD14-4218-B7E9-F4F23A2C07FB}"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ED9D8-493B-489A-8E8E-5C9A8C7A74C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8A7AB0-1DD0-4948-98FA-E54712321EA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F318C-D01C-427E-9CB0-53B34EA2A90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98ADC67-C10B-4CEB-AAB7-62725DEBF95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8C777E-90CC-4008-B2D4-20E8BF67602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B04E0-EAB9-4947-97CB-11331CDAAB6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5D39-F181-41A2-A963-03A75BE4BB5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B02107-B758-4C52-A4BD-5FDBFC58898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7EBD1-B12D-4D4E-9E69-02E541E46E3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3DC199-8963-4854-B869-BAD3B23FE8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59C8165-4449-47CB-89C3-39C9D36EFDE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1B69C-BC22-4EAA-A932-8849366369D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BFBB0F-1DB3-4F12-B957-A729E3FF1AD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2D06D3-2FDE-4F25-A0CE-66D67B7D7C4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56CA4-6D5A-4026-81CA-09BCB4802AEE}"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1A50B-9D45-448B-819F-4999350B778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79B34-AC83-430C-9DCD-4FA2E41E6A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7BD7DE-7683-4643-8543-EBC18CBB829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625ED-983C-496A-8672-754522428226}"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83AE4A-82BE-412E-966F-20C510E04BA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8F246-A011-47C6-A6CA-D035A15B02A1}"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0864B-C9AD-49B4-8A7E-DE82323A1D3B}"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A10B9-2E9A-41DA-831E-947616B9107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3A89D-DF06-43E7-9743-8C7C24F5634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FF0E76-9498-4B63-815E-C5DAABDA7D24}"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D80A02-7C02-48CE-A170-EEE62E23D41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9F7914-3629-4641-BF8E-2728F98992B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6433C4-1D9E-4981-B707-A5F18E4C9A0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73DF1-03FE-4E05-8F1A-36CA8068057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A300F0-F77B-46FC-A3C4-FC4A95548081}"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D077B-1473-4E14-A17F-FA0D1E4ACEF2}"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276B3-A94D-4E30-85BB-C8FD5222C5F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8C10C2-C596-4DE1-88E7-6A84CB355C2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CBAD4-71E4-4E01-9A7A-D21F693DB774}"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DED18-B156-412B-915A-A049762B7987}"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B496-7422-48F9-B5FC-FB190F0C812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1DB411-5E1C-47B8-A9B0-AF24D0D356E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1179E-BB4F-4591-A9D7-7F99B98D274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B4C0B-8545-4676-AB37-5FF56F3857B1}"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2C09C-9D42-4D15-8ACD-A8EAB409D096}"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9A9C-F7C4-41EC-A076-C0730E0D461B}"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FD891-652D-48C2-93D4-6FB7D1C2F29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12F410-5138-4990-B942-B4CB52D178D4}"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B72EA5-B7D0-41C6-BDEB-582914AC4B3F}"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31220-2CF2-4699-82D6-FD1B65C6F12C}"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28FA02-E3CE-4094-867B-0A1E30ABDB82}"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B7E16-DA51-47AD-969B-57571CC8C755}"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F5636-DB99-4E72-BFDE-5086CF5479F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2AA913-5B2E-4A75-858F-729B82358B9E}"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5C2E0-DAE6-4779-B50D-AC800FB1C87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FDD2A-9534-4AA4-A4B9-20126D8B84C5}"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002BF-1955-407A-8E13-B216C73B6ED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65E98-E6EE-4B54-80FF-F172B750128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61831-41B9-4B1B-99EE-7DDB59A1283F}"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23F95D-9ED1-462D-A852-67DBF3B92ED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987DAC-F0D5-4238-B874-31CA2FCE22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382E9-8AE6-4E1B-8706-1D88B054360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879A-EEE3-4372-A15B-2C3720C69C0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C31EF-31AB-4C6D-B22A-A2A16CBCAD5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4DD7-7751-42F7-989A-A2253BBF7B8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5E2A16-2C28-487C-AA69-CF8B169C3F8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EC54-648A-4566-99C5-A14791A9DB4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15BB94-A015-46BB-8F5E-49282E8CA92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44798-B11B-45BB-ACD1-954D0FC502E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182864-1588-497A-9099-9889D89FFE2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78E58C-4D6F-47D0-8FFD-50BD770B75DA}"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F7D60F-D684-41EE-B8E0-36A1A9279F16}"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64301-3D6C-4C2E-9E7B-CC6CE8719BD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6637B-BE61-4858-8C8D-ABA8616CF46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AF96-F29B-470D-B304-54C430C3C67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22E6A-7266-4584-9CB5-CEC3569799B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467535-6AD9-4308-97C2-C2D4C9C9C2D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B0A744-5A52-4ABA-A8AA-6960843F7A8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F7499C-0E44-4AF4-9F47-B6727BABA00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0FFA-6111-483D-AE71-CAC764BC34C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D6F151-ECD4-4897-891D-DC42C3344B3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67184-D849-4F3A-884F-CEB8B5DFDE6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0F143-D824-46C4-B1D4-21E6BE451D1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A2A55-1B94-4E0F-8AA7-4CBE66DE2A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B1BECD-298A-4215-B4A7-A96FB5C7DE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ED62A-44C5-4105-9089-018DE6DE5A9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0A8A5-C76D-47CC-AC13-44B6C59B6CB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5BD67-BF3C-4821-8068-22CA00B3ADA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508E1-0D7A-48A5-A270-6F02589B2AAF}"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BFB25-B3B6-427B-BC1D-CCD0F400361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5926D1-7AEB-4198-B0A2-3F294D287FE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508FDD-43E8-4A24-91F1-14C2464F346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A6B0D0-F21C-49C5-B3F5-F95234E2A1D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79E5E7-416E-464D-A7ED-6F5EF888226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